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unshot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AD7-1273-42E5-8C70-498D4BBB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D3F-2C6B-491D-A319-3F12BC4A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567-6DFE-4CC5-A27C-BF047C0B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C01-E459-45C2-B157-24FD5BEC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C53-EA15-4440-AE65-4F568BF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0CF-4E5A-4B78-91F6-C385E87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CA6-F168-4B5F-AD7A-9CBB7A2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F42-4BAA-4B4E-AEED-3ECCD2F1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2E7-FC22-43AE-AEC3-E296A99B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D71-4899-4EDB-862F-6630AD6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7B5-F6F5-442E-A7EE-2C73ECA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575-456A-455C-8354-E56F44F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1003-C69A-4551-80C6-11D11FB84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oc2.doc" TargetMode="External"/><Relationship Id="rId3" Type="http://schemas.openxmlformats.org/officeDocument/2006/relationships/hyperlink" Target="file:///Class.doc" TargetMode="External"/><Relationship Id="rId4" Type="http://schemas.openxmlformats.org/officeDocument/2006/relationships/hyperlink" Target="file:///Break%20time.doc" TargetMode="External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1987200">
            <a:off x="5562360" y="3123720"/>
            <a:ext cx="2133360" cy="177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S.2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53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Early in the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During clas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 Black"/>
                <a:hlinkClick r:id="rId4"/>
              </a:rPr>
              <a:t>Brea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Lun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After l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S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Pr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Su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B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 DAY IN LIFE AT APRED ND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5" name="gunsho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9:51:38Z</dcterms:created>
  <dc:creator>APRED</dc:creator>
  <dc:description/>
  <dc:language>en-US</dc:language>
  <cp:lastModifiedBy>APRED</cp:lastModifiedBy>
  <dcterms:modified xsi:type="dcterms:W3CDTF">2002-10-24T15:50:04Z</dcterms:modified>
  <cp:revision>14</cp:revision>
  <dc:subject/>
  <dc:title>ADAY IN LIFE AT APRED</dc:title>
</cp:coreProperties>
</file>